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54536-F53C-48F0-8BDE-DB671669B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9C409-369E-4E1B-9927-E721355B9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E7FFB-209A-49D4-8F20-FFBF3064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AF77F-06EC-4BF4-A361-2A5AE3257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14619-B1ED-4588-9D6E-E68A4844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D8CA-3F1F-4D40-97D8-B6B5AC29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DE21-8512-4F10-8D17-584AD1C5E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499E-3581-410B-85F5-1143BD956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D5681-5E00-4471-80D4-7E9A13441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644C-2874-42A1-8540-20D30CAF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F13D1-4D5E-4A43-9D70-E3C11B02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85F4B-8BB3-46C3-A1DA-FE199D5C9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3596-E314-41D9-864F-C9279BA71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1440000" cy="1440000"/>
          </a:xfrm>
          <a:prstGeom prst="rect">
            <a:avLst/>
          </a:prstGeom>
          <a:ln w="0">
            <a:noFill/>
          </a:ln>
        </p:spPr>
      </p:pic>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6b2</cp:lastModifiedBy>
  <dcterms:modified xsi:type="dcterms:W3CDTF">2012-06-19T11:02:36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